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506-5C55-4296-9565-3A311C1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DEC-4028-4D00-9E1F-FB1ACC83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8E6-04E2-40BB-B58C-A20A9369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99D-06BC-4F3F-8361-AFEFCB38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7B2-DB9F-4347-A740-D937080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32B-3B5D-4009-9525-978F7BA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4C4-A2FC-41B1-96E2-17EEDBFE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645-9460-4CFD-91EB-5BF75ADC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C88-6096-469D-880E-FABC0C2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B81-A05D-41DE-9E8F-4FEC7C9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B2F-E28A-40C8-8A8E-21270B0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504-F58A-4387-86D2-C52EF01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CEB-0D19-438D-A380-3F1D7731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38080" y="13716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cient Ind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eopardy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 develop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250"/>
              <a:gd name="adj2" fmla="val 1743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known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of the Ary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sk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Empire in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atest leader- Aso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d off of Hinduism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greed in some of what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iev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level of the Caste 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isy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who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religious place to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madic people that settl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ing to lead to a u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so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es are their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 Law that requires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to do their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209680" y="38088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629240" y="1270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152280"/>
            <a:ext cx="17528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liest known civi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ppa and Mohenjo-D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hieving wisdom is a ste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chieving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uddh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p level in societ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ste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h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sonal wind pat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brings heavy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me wealthy by us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sh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common reli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west level, often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ed part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touch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de rout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 and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 into power onc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ushan kingdom f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pta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13768"/>
              <a:gd name="adj2" fmla="val 20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nduism believes o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die you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born in anothe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car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Logan Hermsen</cp:lastModifiedBy>
  <cp:lastPrinted>2001-01-31T16:21:13Z</cp:lastPrinted>
  <dcterms:modified xsi:type="dcterms:W3CDTF">2010-09-19T20:32:08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