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A22-434A-4F5B-A690-06425A86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88F-96A7-46ED-8390-094F3676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3E1-C506-42A4-9F4D-ADAEBFEA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FEC-16F4-402E-B90C-7829E1D4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414-838E-4F2D-9D9D-08987DA5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44D-0FED-4956-93FF-A033B0C3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12A-EF0B-4CF7-9950-6C360DAC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16A-83D4-4FF1-8A35-8BBF831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FD3-6A1D-42BD-8DE1-5CFD22B9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A30-D73F-4183-9E63-2756B9A1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34D-7F31-46A7-8A74-EABBDA5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97B-783F-484E-B416-833C452C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E42C-F842-4B12-A4C4-D838CBCF8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838080" y="13716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cient Indi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Jeopardy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________ develop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0250"/>
              <a:gd name="adj2" fmla="val 1743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known writ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 of the Ary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sk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Empire in Ind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eatest leader- Aso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ed off of Hinduism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agreed in some of what the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lieved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d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level of the Caste 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isy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ople who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m religious place to 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gr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madic people that settled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y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ning to lead to a un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a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ifferent so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es are their i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ndu Law that requires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ople to do their du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209680" y="380880"/>
            <a:ext cx="22860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vil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4629240" y="127080"/>
            <a:ext cx="205740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7010280" y="152280"/>
            <a:ext cx="175284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rliest known civiliz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ppa and Mohenjo-Da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hieving wisdom is a ste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chieving 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Buddh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top level in society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caste system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hm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asonal wind patte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brings heavy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ame wealthy by using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sh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most common relig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du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lowest level, often no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ed part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touch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rade rout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 and Chi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k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 into power onc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ushan kingdom f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pta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13768"/>
              <a:gd name="adj2" fmla="val 20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nduism believes o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die you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born in another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call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car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Logan Hermsen</cp:lastModifiedBy>
  <cp:lastPrinted>2001-01-31T16:21:13Z</cp:lastPrinted>
  <dcterms:modified xsi:type="dcterms:W3CDTF">2010-09-19T20:32:08Z</dcterms:modified>
  <cp:revision>7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