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F7C-C9C7-4E43-9678-3B448F21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5E0-D66A-41B1-A2CE-27B77750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BAA-D835-4A64-87B8-C0E88B81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F7D-43D7-415C-80A4-22F1CC00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7E8-27E3-47E8-B6D9-BE8DF22A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0B9-B234-41F0-89E3-ABD0509A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E70-0BFD-47D5-9578-C70B64DA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5C5-FAD7-4D1D-9F8E-EDD0CD5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052-BA2E-4ED9-8926-E5D945BA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A85-C0B7-4A32-B5AD-42F0BB8A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09A-8D3B-4BA5-B1D0-5A029BDE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5DB-5B40-45E7-9ED3-128F13EF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E9B7-6F34-4936-B415-00B4EFA51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838080" y="137160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ncient Indi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Jeopardy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 develop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0250"/>
              <a:gd name="adj2" fmla="val 1743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 known writt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guage of the Ary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sk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 Empire in Ind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eatest leader- Aso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ed off of Hinduism, b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agreed in some of what the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lieved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d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level of the Caste 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isy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ople who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om religious place to p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gr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madic people that settl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ining to lead to a un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a yourse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different so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sses are their i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ndu Law that requires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ople to do their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ha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209680" y="380880"/>
            <a:ext cx="22860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vi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4629240" y="12708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7010280" y="152280"/>
            <a:ext cx="17528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rliest known civiliz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appa and Mohenjo-Da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hieving wisdom is a ste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chieving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Buddh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rv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top level in society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aste syst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hm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asonal wind patte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brings heavy 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me wealthy by using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lk ro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shan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ost common relig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owest level, often n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dered part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touch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rade route 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e and Chi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k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e into power onc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ushan kingdom f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pta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13768"/>
              <a:gd name="adj2" fmla="val 20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nduism believes o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die you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born in another bo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call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ncar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Logan Hermsen</cp:lastModifiedBy>
  <cp:lastPrinted>2001-01-31T16:21:13Z</cp:lastPrinted>
  <dcterms:modified xsi:type="dcterms:W3CDTF">2010-09-19T20:32:08Z</dcterms:modified>
  <cp:revision>7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